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20.png" ContentType="image/png"/>
  <Override PartName="/ppt/media/image36.jpeg" ContentType="image/jpeg"/>
  <Override PartName="/ppt/media/image52.png" ContentType="image/png"/>
  <Override PartName="/ppt/media/image30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7BF-6A1C-4DFF-A721-1ED09E5C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18C-ED7C-484B-AC28-3EF158EB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987-B3F0-4E3D-981C-64FADAD0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68D-4E59-417D-B9B0-E73F7A53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4CE2-AEDE-4062-986E-3A74E60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32FD-1917-45E6-A7BB-77A6EEA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E3E-27E2-4A38-A64B-1092F40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D5E-11C1-4A03-A612-ED47CA4A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56C0-DB6F-415A-B246-31EEA26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E27-BD3E-4706-9CB9-8C013AEC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6D3-5756-46D5-9AE7-54C2B55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D7B-19E5-4A49-8748-6A17F1EA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9AB-25B0-4546-8DE6-297E5FC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5A9D-5A20-47B9-A89B-C0BD628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3A3B-B611-4D41-A779-0E06099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4C6-50F2-4DDE-9B66-655B3E25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688-DB94-4E2B-9B8E-A2F86A25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FB6-3104-40FB-8A44-2546F397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E79-AC85-4C69-A68C-B15044E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06C-2981-4CD6-B89E-AA8DB98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D7F-CF36-4E7E-B8C8-3937687B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5EB-3721-4211-8DFE-EAD83F8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BA3-90BA-4EBF-90B2-041C3D5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DF9-B90C-4CE1-AD81-7A8A78E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C088-92AE-4571-84A7-26D7E4042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ECE-A502-40B5-84F3-471D3B1A45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eobrazba izraza l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plomski rad br. 14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: Vjekoslav Žnidarš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or: doc.dr.sc. Željka Mihajlov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4762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veučilište u Zagreb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ultet elektrotehnike i računars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2463840" cy="71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1879560" cy="64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84720" y="4076640"/>
            <a:ext cx="4174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ussova radij funk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bro upravljiva konstantom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rodnog i glatkog obl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2133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kcija koju želimo dob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4038840" cy="133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492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tav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ednadžbi 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pozna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4038840" cy="1444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508720" y="4653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rični prikaz sust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1206720" cy="609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1193760" cy="596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3925800" cy="673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95640" y="5229360"/>
            <a:ext cx="19047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643280" y="5084640"/>
            <a:ext cx="2425680" cy="1003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995640" y="2133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tav rješavamo metodom LUP dekompozi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4581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ktore x i y dobijamo unaprijednom odnosno unatražnom supstitucij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aka točka na izvornom modelu ima svoj par na ciljnom mode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znati su nam vektori pomaka za svaku toč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matika postaje mnogo jednostavn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417080" cy="2816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76360" y="530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jer preslikavanja dijela izraza kod modela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dovoljno dobri rezult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jelaze je potrebno “izgladit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vodimo težine koje pridjeljujemo točk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653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32560" cy="2372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4581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ktori pomaka se množe sa težinama pridijeljenim točk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35280" y="5229360"/>
          <a:ext cx="159084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229360"/>
                    <a:ext cx="1590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921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žine točkama pridjeljujemo pomoću miš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o alati za bojanje u programima za crta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042920" y="3357720"/>
            <a:ext cx="70581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02920" y="1915920"/>
            <a:ext cx="663588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plat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Studio 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GL grafički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platni “Open-Source” dijelovi k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ball.c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iGen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is rada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84000" y="2060280"/>
            <a:ext cx="54831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oniranje izraza 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čunalno generirani lik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is rada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oda izabira toč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384720" cy="314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0" y="2708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oda izabira točaka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k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crtavanje elemenata scene u malo područje oko pokazivač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ređivanje elementa koji nam najbolje odgov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iranje uređaja sa kuglicom za pozicioniranje pomoću miš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is rada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9079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58920" y="2997360"/>
            <a:ext cx="2514600" cy="1879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2552760" cy="1879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55640" y="501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ija sa ravnine na sfe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6720" y="4941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laženje kuta rotacije između dvije točke projecirane na sf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7280" y="2852640"/>
            <a:ext cx="71280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platni program koji zapis scene u međuspremniku pohranjuje u .AVI datote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is rada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9079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lazni poda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1338120" cy="2036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338120" cy="203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292720" y="4221000"/>
            <a:ext cx="1338120" cy="2036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755640" y="1341360"/>
            <a:ext cx="1784520" cy="2714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268360" y="4221000"/>
            <a:ext cx="1338480" cy="2036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6804000" y="4221000"/>
            <a:ext cx="1338120" cy="2036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59280" y="1989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up modela sa jednak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lazni poda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480360" cy="2378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5132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lazni poda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olacija na cijelom mode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2789280" cy="425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smij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olacija na cijelom mode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% smij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2786040" cy="4249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olacija na cijelom mode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9640" y="57340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5% smij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2786040" cy="4249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polacija na označenom područj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7080" y="2276640"/>
            <a:ext cx="2232360" cy="3404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232360" cy="3404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421080" y="2276640"/>
            <a:ext cx="2232000" cy="3404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4210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708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ij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jut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lj r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77868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struiranje izraza lica kombiniranjem postojećih iz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ranje animacije prijelaza između izraza 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polacija na označenom područj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89280" cy="42544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789280" cy="4254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ulacija ožilj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7892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ulacija ožilj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786040" cy="4249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232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346480" cy="3259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2232000" cy="3930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17640" y="1636560"/>
            <a:ext cx="3708720" cy="4457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374920" y="1600200"/>
            <a:ext cx="43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138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o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 sa jednakom topologij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1640" y="47260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i oblik opisan različitim topologij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92360" y="2707920"/>
            <a:ext cx="64800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olacija razasutih toč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cattered data interpo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95800" cy="396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24360" y="2781360"/>
            <a:ext cx="432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akteristične toč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valiteta interpol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3659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371000" cy="2981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etička podlo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98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 sa različitom topologi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8:11:33Z</dcterms:created>
  <dc:creator>krupp</dc:creator>
  <dc:description/>
  <dc:language>en-US</dc:language>
  <cp:lastModifiedBy>krupp</cp:lastModifiedBy>
  <dcterms:modified xsi:type="dcterms:W3CDTF">2004-09-28T17:14:47Z</dcterms:modified>
  <cp:revision>3</cp:revision>
  <dc:subject/>
  <dc:title>Preobrazba izraza lica</dc:title>
</cp:coreProperties>
</file>