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38F-B364-460E-A5D8-756D093D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FA7-C8EE-4EF4-9FDA-472FD389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E11-EE1A-4ECA-9664-E1BD6F99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1CA-FE49-4C06-BA34-70902B81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03F2-5D66-4681-9FD7-8F0F75A1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B143-C439-44E1-90EA-24FF3D7D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9487-4B3E-420B-8C2F-BD13EEE6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ABC8-06BA-438B-99F0-20B067B6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2BD1-0794-4CC0-9A3A-285F837D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D927-4C2E-4632-8FD1-54E93A17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F472-B362-4CE3-8E58-A85502B5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78B6-E47A-478E-9D2D-8A1533D8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099F-D325-49EE-BCC7-317034DA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49C9-2146-41EA-869F-4C2E6408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4A0E-35E3-4DB2-AF25-89E7CE89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1041-8FD5-410D-A797-9E63D8AD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89BF-2A4D-4788-A6F7-96812533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3A5DA-1208-4757-A4EB-7C80890A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BF62F-1810-4842-B801-A136DCB9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11138-808A-49D3-878C-A6B9711C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72378-3137-49E0-9272-BE392999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0E28A-6E98-4FDE-8B8B-40B97975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2F8-EE00-499B-984C-BE6A53D7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CE75A-9504-4FBA-BFB0-45757998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29EBE-8547-4492-8A82-F3EF33A5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320B2-ED4A-4AC5-AE4A-DCC372D1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9CD8A-5282-4B5F-A356-9234B3C5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A49EC-E9A7-45C5-8F59-28EE312A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BFC36-DE05-4FDE-8FA1-034F4599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DC7A4-93E5-4915-919F-7DABA5C7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4E04C-E104-4EAE-93C9-EB90D9E2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12E37-94ED-4998-A6C6-55AB253F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E3825-2952-4343-A940-509D87BB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6A3-738C-4251-ADBD-5BF42176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63F05-947E-4090-9E19-1B545171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15561-C88F-4F06-B3D5-D258E52F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E1311-15D2-4A14-A87B-BF034F06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DA940-E544-4E3E-BF36-3808114D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05683-2CA3-44F1-8AAA-B80F801E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F4F33-158A-4E46-8981-82AD8E4D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85E55-4F12-4656-92FB-41919C69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4F782-59A7-492F-9512-8E65C270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B6806-73E6-467A-988E-926774A5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BD7B5-701F-4CC7-BB3D-88F00D20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7E8-EA2D-4424-8054-3F5728D0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9AE98-FA68-48CE-8309-91C3D840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93E8D-A67A-4E0A-943D-CF0BD036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98C2C-2DC4-4620-B760-9DA7EC8B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66F68-2E39-4B8E-8A38-9DF3DF25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BD83A-9A3E-45C1-AD5A-029383CC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A6A35D-6C5B-4EF0-84C1-288998C4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35B18-3703-4DAD-8D1F-4FAA503C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266FF-8DC2-4DDB-806E-0F300231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E4871-99D2-4478-8E30-35224F81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8B928-309A-4E86-B015-BBAB9374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638-FD36-471E-8BD6-123010DE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98F78-5276-4AE7-A247-119893D0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437C3-6A9E-4B3B-95F1-48471C0A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51A95-80E5-4B55-90A2-968270B3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24AAE9-6799-452E-85E1-C110D99E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CC1C86-653B-473A-B69A-FD62FCA8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DC112-621B-49A0-A3F6-EB32070A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43D640-8F08-4F97-AF0C-9604BDFE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6081D-6912-4C2C-91CF-8F33841B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D9D3E-0211-46F5-BF90-58683A4A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1589B8-758D-4466-A5C7-71B4C9A4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2CB-7B20-4020-8CF4-573EF805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49C7C-F05A-41AC-91D5-D0246503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E6C1F4-143C-4B48-BA66-EC813A70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AAFCD-9D64-4212-A5F0-9DF3A925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DD5788-211D-472D-8067-2D085ADD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B5AF6C-639A-495C-832A-6B00B214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DDA17C-9D41-4888-9854-B6E3BAE3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CAE26E-D5E8-4E46-BF10-9C7D99FA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87753-E0A0-46B0-A2C0-B705C08E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E585C-A3EA-448A-A612-7CA2C252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D7A34-1F75-4910-9953-4493340A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3F0-31FA-4F76-BE18-91CA03F4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6CC30E-9993-4F4C-8F7D-7769D665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B9B6D7-5CB9-4CAE-9878-EB7E75A9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9A580D-22BE-42C2-9410-B5B67B23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DB32D-A8B1-4093-8E1C-F096D147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4B51A-1EE6-4442-BA74-BC1D76CE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EEB-CE55-47B5-9F43-C133914C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6246-158B-4AF5-A1A2-333A21CBEC60}" type="datetime"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F30E-E307-4FF0-8BA4-200EF2E57624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17C8-68BA-4456-A917-C73C53BEE8EF}" type="datetime"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CCC0-4F38-4912-8208-7922F9A27500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4871-393E-4028-BF98-1C182E1900F2}" type="datetime"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26A3-CCEC-43B5-B527-B37B8E42825B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C2F3-E06C-4808-89B2-37D3D971AF81}" type="datetime">
              <a:rPr b="0" lang="hr-HR" sz="1200" spc="-1" strike="noStrike">
                <a:solidFill>
                  <a:srgbClr val="fff39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D122-9BA0-4A3B-93CF-85F0E4BBDBB0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59D6-812D-42EF-8493-E6DF6F37FA9F}" type="datetime"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69B2-84AA-4500-9BD5-8C6568706B60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9058-9AC7-48C8-B604-00337E48E4FB}" type="datetime"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8391-C09D-4EA5-9E99-346639F7E84F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C71A-AC24-4CEC-A5E0-FFFF9EFEF45A}" type="datetime">
              <a:rPr b="0" lang="hr-HR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DBE8-4B09-49D5-87C8-F64E988BBF1B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68000" y="2707920"/>
            <a:ext cx="61722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575f6d"/>
                </a:solidFill>
                <a:latin typeface="Century Schoolbook"/>
              </a:rPr>
              <a:t>CONNECT FOUR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75f6d"/>
                </a:solidFill>
                <a:latin typeface="Century Schoolbook"/>
              </a:rPr>
              <a:t>Domagoj Bul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75f6d"/>
                </a:solidFill>
                <a:latin typeface="Century Schoolbook"/>
              </a:rPr>
              <a:t>Mateja Čulja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265E-BC17-4A07-84BE-32B29B3F3CE6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CONNECT FOU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gra za 2 igrač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bacivanje znaka u 6×7 map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ilj: napraviti niz od 4 znaka (u bilo kojem smjeru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3" descr="Connect_Four.gif"/>
          <p:cNvPicPr/>
          <p:nvPr/>
        </p:nvPicPr>
        <p:blipFill>
          <a:blip r:embed="rId1"/>
          <a:stretch/>
        </p:blipFill>
        <p:spPr>
          <a:xfrm>
            <a:off x="1979640" y="3141720"/>
            <a:ext cx="4930920" cy="2927160"/>
          </a:xfrm>
          <a:prstGeom prst="rect">
            <a:avLst/>
          </a:prstGeom>
          <a:ln w="0">
            <a:noFill/>
          </a:ln>
        </p:spPr>
      </p:pic>
      <p:sp>
        <p:nvSpPr>
          <p:cNvPr id="357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B846-6764-4699-86F7-39A3E39D0B5F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IDEJA SUSTAV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kspertni sustav igra protiv čovje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Tip ES: agent baziran na koris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ustav za svaki potez pretražuje prostor stanja (stablo) do dubine 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vako stanje predstavlja izgled mape nakon određenog pote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Odabire se potez s najvećom korisnosti (suma korisnosti čvorova-dje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Korisnost čvora: 1 za pobjedu, -1 za poraz, 0 za nepozna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8B97-1CBC-4885-A115-FB86366C3A26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IMPLEMENTACIJ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rogramski jezik LISP (~220 linija kod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ijalekt LISPA: Cloj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zvodi se na Java virtualnom stroju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moguća uporaba Java library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0B27-5499-4D8C-992E-860E628ABBFC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9:50:06Z</dcterms:created>
  <dc:creator>Mateja Čuljak</dc:creator>
  <dc:description/>
  <dc:language>en-US</dc:language>
  <cp:lastModifiedBy>Mateja Čuljak</cp:lastModifiedBy>
  <dcterms:modified xsi:type="dcterms:W3CDTF">2012-01-09T00:20:28Z</dcterms:modified>
  <cp:revision>13</cp:revision>
  <dc:subject/>
  <dc:title>Connect Four</dc:title>
</cp:coreProperties>
</file>