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D7CC-6908-4C6C-B2D2-6DFBC89BDFF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08D9-8203-49A1-80AA-128E5D55D4C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F5FC-BA30-4B77-B23E-31D312C7EFA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5A3-98A8-4B7A-A807-17982E6A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56C-B43C-437F-BBB7-4BBC38AC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0280C-8C27-41E7-97DD-B3F25C53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EC0AA-5D68-4A60-B84C-66D36456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2E4A5-8657-49E1-B41E-978F6412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FA8D1-70DC-4226-A600-D187B2DC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F723C-440E-4280-B039-B16087DE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360F7-6ACC-4BA1-8F54-36CCE251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832B4-4569-479F-9C69-C3809BD9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62F20-E213-4600-9334-798323D1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F297B-CCE2-4784-A0CE-730B904E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1DD96-0226-4228-93DD-F9BE91CA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763D-0829-4587-81BC-A63CF02C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3B97B-172A-486D-889B-2FF041F1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BD8E1-D14E-490A-9B6F-BF8A7F97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1CAC7-57C7-45BA-AAE4-06F37987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89236-4AEB-4980-8BC7-67284E16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57480-5172-4EE1-BA09-40088DCC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15DA0-35AC-4A42-86D2-5496A7B9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04898-9988-406E-BFA3-15B40DF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7793B-4C65-49F8-AD9F-B70A329F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F32E4-5929-434B-A06F-168CD699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372A2-124D-4723-9897-CECA7888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29E-C492-4473-8AFF-C0645E2F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6A87E-E2B3-47A4-8407-ACE1EEB9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C9011-BE69-4831-BB2A-F3870A19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0FAD3-7FEF-463E-88C2-3A4BB103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75697-B31C-45CF-B24E-A3D7DA29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A1975-2115-4E86-B823-A6D39888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B6F58-5E2A-4A07-BFF1-39A73521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93930-3BFF-486E-82DB-BF153EFC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34683-B296-4539-B01D-047FF856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3DDA5-B374-4D82-9F65-E710FF26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420F6-CA16-4EFB-A4DF-901DE840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C2F5-0421-47C2-B659-CEA1EB69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7401F-336C-4ABC-B429-C85D3840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FD855-886C-443E-88B2-788122C8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024FC-2F81-4510-AE31-1A7DBB1C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7D27-D119-406C-AF72-BDD089AA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3766-B2CD-42E8-9503-D213E050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0214-583D-45F5-8346-E65EB038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1D51-74FB-449F-B26F-4A4EA0A6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C50E-367D-447E-80D3-0C0FD79A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515E-DA32-4DF8-B74C-CD72197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E5B-2954-42AA-961A-8D65FB0E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294E-A85D-4EB4-B67D-11421E35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BDAD-BEB0-43BD-95C6-26214422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68DB-1CC6-4BE0-B613-3B6CDCBF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E39A-DD00-436F-B53B-9FA44EE8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8E4B-0706-44B7-A02A-13455EDC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8E6F-441A-45F3-913E-2F20468E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8D63-BF42-47AE-A52D-B76AD2F7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8AF4-8E5C-4B4A-9A4E-2D46B84B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6E2C-BA6C-4A50-832F-9472111D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73061-BCDD-4478-852D-B1C5580E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F04-EFFB-4A1E-B94A-CD61635D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6470-ACF5-4D6A-80C5-9A516B1F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D76B-E110-45B6-A346-07DB24F5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697A-100E-4045-99D2-B1798BE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142F-8D64-49B9-83D6-2D53D92A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41FA-B479-4AFD-898F-F4798E07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0128-311E-4A01-82CA-4F1435FD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C20A-1E3D-44A7-B658-5D9EDF2F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3E70-F5AF-457E-A87F-4CF663A7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6D8B-7094-42AA-91AD-31EF2940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6114-83CA-4B31-8BA0-B5C11BD7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F43-D308-4032-BFAA-B000958E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CDC6-E2CD-4D3A-BB24-7E6288B0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E08F2-8910-4A78-8183-4E8D14B0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D0735-D270-43A3-8B91-B826C31B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4C8FD-9B0A-4669-B5A9-4FA9CF5C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55B9B-BF3A-41B4-A803-D0B6978E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D7C0-91CD-4BF7-95B4-EA26CD1C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8EC2-CC1E-4869-977E-F55FAE1E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B25D-9DAA-4ACA-B1D8-CEE2F59D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34450-3A3B-43C3-9BC3-8EA9D3EA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FC3E8-AA33-453D-BFD3-193AE80F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B65-06D0-4A11-B928-717B8DD9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C2FB-18A5-433E-96C5-E6F7C3F2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81336-9312-470B-A8E3-1D9D4B91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5D93-7DEE-4BAE-82A8-B6BD4C14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E2CA-39C7-42D2-B94C-59E10EE5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55266-4AA4-4E15-8EF5-604A6707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473DD-2143-4B47-90C3-827C0FD9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D45B4-12C6-44DB-8BED-1CAF58E7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2735-2FAF-4B1D-843B-739A7433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1DCA1-409D-4422-9386-AECB77D1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F2EDB-677F-4B0E-9F2C-0EB1A695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096-4CBD-4F78-87C7-595A4CDD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9B44E-79EB-4786-BE32-DBF0D91D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F10A4-0EAB-422B-B944-2051C0C6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9E4E-F7B9-4EF7-8F1F-53D711A6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68E13-AA86-48D0-9313-1A8D12BD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B3588-F375-4629-990D-55CCEE97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C424B-C131-44A8-B5D1-7EA5E3F0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96C88-766C-4A08-B5AE-D46863FD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B9D31-250D-4BD5-A995-BADC2BD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A8E7D-9B37-4B0C-B2E4-FC34873B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9A9A9-4023-4F2C-9C5A-B90A7FF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7DF-3400-4111-8CF9-6CC4C16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ECDEA-E4E5-4577-A569-581660C2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A5BF0-44E0-47DA-B37C-8C98749E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55B04-81B3-42F9-B570-FF85F00B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3413-3DB8-4B19-B2D2-747920A7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9AA74-2368-4517-A3F5-CF1347E5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FE3AE-AF08-4DB6-B999-77BCADA4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34E34-F203-4FD3-8337-836064C4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6E459-8E1B-48F7-AD24-688C2203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00DEB-73C8-4ECA-9B4D-A5406187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EB9C1-E40D-46EF-B1AE-81CCA458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D08-0421-47C7-9815-282C984E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29811-BA40-403F-AEDD-916BA51B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47D2A-9434-4A13-B405-CFA24655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0A75B-09B8-4C83-903B-CC99D080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9A341-2674-4943-BB20-B10E2DF9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E03EF-8AAB-4338-B676-17CC6E35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C030E-6AE4-455E-AAAC-C73AEB36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E2E68-16CC-49BA-BDEE-C715887B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5CF8F-1141-48EA-8F99-DD182A8D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25EAF-F4A5-4827-B241-E7A47407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7E105-860C-42AF-88B5-565B4E9C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274-1F92-447E-80C7-DFD5DCD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A68B2-0C34-49B4-AF4A-9177D0BA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94DF7-12FF-44A1-9950-9C42906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E6CB8-8B7D-437A-BDAC-AD8AC51B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4554E-D295-4221-A912-99C6D0FF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EF502-3C0C-4095-B1D1-5E2824AA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A8DAF-3BB6-4923-A3B7-BA0D5914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60FB7-3BD8-43F1-AFFA-FB79C52A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E3718-A13B-499B-BF30-070FAC7D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B16E1-46BC-49C7-BCCB-453949B0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5D6F8-FFEA-42F8-8DB6-F3B5D1C4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327A-7EA7-43F0-86FD-CDB016692D8A}" type="datetime">
              <a:rPr b="0" lang="sr-Latn-CS" sz="1000" spc="-1" strike="noStrike">
                <a:solidFill>
                  <a:srgbClr val="29292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C7D4-538D-4008-9B8D-A969D0DCFEB9}" type="slidenum"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C1F4-4120-4330-9A86-2E54E6FA3FC8}" type="datetime">
              <a:rPr b="0" lang="sr-Latn-CS" sz="1000" spc="-1" strike="noStrike">
                <a:solidFill>
                  <a:srgbClr val="29292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0908-6415-451C-9602-36C84E65F612}" type="slidenum"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8D3E-96F2-467F-B65C-0479DF5D08A8}" type="datetime">
              <a:rPr b="0" lang="sr-Latn-CS" sz="1000" spc="-1" strike="noStrike">
                <a:solidFill>
                  <a:srgbClr val="29292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9993-44F0-4B11-8C98-7B246C6D8AC5}" type="slidenum"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8C24-EBF7-402C-8FFF-EE985205BD42}" type="datetime">
              <a:rPr b="0" lang="sr-Latn-CS" sz="1000" spc="-1" strike="noStrike">
                <a:solidFill>
                  <a:srgbClr val="29292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86C5-835D-4866-9903-30DD7C56430E}" type="slidenum"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9B92-C81A-4CB4-B7D7-AD074DF0893D}" type="datetime">
              <a:rPr b="0" lang="sr-Latn-CS" sz="1000" spc="-1" strike="noStrike">
                <a:solidFill>
                  <a:srgbClr val="29292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20D5-3A25-448A-A854-75FBB19ABAFC}" type="slidenum"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1CD9-4CB3-4340-B793-4694A2024CB7}" type="datetime">
              <a:rPr b="0" lang="sr-Latn-CS" sz="1000" spc="-1" strike="noStrike">
                <a:solidFill>
                  <a:srgbClr val="29292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EA5F-7B40-41EB-8CB7-F2A6853FBC77}" type="slidenum"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/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6FBB-CD5B-4CE8-9262-69811A8975E8}" type="datetime">
              <a:rPr b="0" lang="sr-Latn-CS" sz="1000" spc="-1" strike="noStrike">
                <a:solidFill>
                  <a:srgbClr val="29292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EFBC-C191-4F1A-A9C3-79F0B0218CDF}" type="slidenum"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59A2-78F0-4CB5-8110-6F4FFA435A13}" type="datetime">
              <a:rPr b="0" lang="sr-Latn-CS" sz="1000" spc="-1" strike="noStrike">
                <a:solidFill>
                  <a:srgbClr val="29292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8F59-B243-4503-8C47-C24C892694F0}" type="slidenum"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55BF-CD38-41AD-A98F-EF6A972582A6}" type="datetime">
              <a:rPr b="0" lang="sr-Latn-CS" sz="1000" spc="-1" strike="noStrike">
                <a:solidFill>
                  <a:srgbClr val="29292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47F3-CA31-4243-AD6C-2CB8A2F05081}" type="slidenum"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72FA-662A-4385-B116-B8A6F467F636}" type="datetime">
              <a:rPr b="0" lang="sr-Latn-CS" sz="1000" spc="-1" strike="noStrike">
                <a:solidFill>
                  <a:srgbClr val="29292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FF93-51E5-4637-BAB6-1BE9C579C1AC}" type="slidenum"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F952-BD2E-42A2-9F5D-CC6B226F0B06}" type="datetime">
              <a:rPr b="0" lang="sr-Latn-CS" sz="1000" spc="-1" strike="noStrike">
                <a:solidFill>
                  <a:srgbClr val="29292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FC59-75B6-4FB5-BB75-FDDEC1770022}" type="slidenum"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Times New Roman"/>
              </a:rPr>
              <a:t>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Title 1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7145280" cy="24447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33080" y="1544760"/>
            <a:ext cx="6638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"/>
          <p:cNvSpPr/>
          <p:nvPr/>
        </p:nvSpPr>
        <p:spPr>
          <a:xfrm>
            <a:off x="5715000" y="50007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nko Be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6" descr="Sierp.png"/>
          <p:cNvPicPr/>
          <p:nvPr/>
        </p:nvPicPr>
        <p:blipFill>
          <a:blip r:embed="rId1"/>
          <a:stretch/>
        </p:blipFill>
        <p:spPr>
          <a:xfrm>
            <a:off x="2000160" y="2214720"/>
            <a:ext cx="4251240" cy="38224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00000"/>
                </a:solidFill>
                <a:latin typeface="Franklin Gothic Book"/>
              </a:rPr>
              <a:t>Fraktalna kompresija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ličnost na različitim razinama detal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9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FB82-8B5B-473B-98AD-63B6D2257C07}" type="slidenum">
              <a:rPr b="0" lang="hr-HR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Arial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3223440" y="621504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rokut Sierpińsk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00000"/>
                </a:solidFill>
                <a:latin typeface="Franklin Gothic Book"/>
              </a:rPr>
              <a:t>Fraktalna kompresija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raženje dijelova slike koji su određenim transformacijama najviše slič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ransformac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otac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rcalje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mjena kontra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mak u svjetli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ntrakc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ight Brace 3"/>
          <p:cNvSpPr/>
          <p:nvPr/>
        </p:nvSpPr>
        <p:spPr>
          <a:xfrm>
            <a:off x="2857680" y="3214800"/>
            <a:ext cx="571320" cy="85716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857160"/>
              <a:gd name="textAreaBottom" fmla="*/ 8424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3571920" y="34290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kupno 8 izometr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56D9-1D92-4884-82D2-06CFA5F057F5}" type="slidenum">
              <a:rPr b="0" lang="hr-HR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Arial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00000"/>
                </a:solidFill>
                <a:latin typeface="Franklin Gothic Book"/>
              </a:rPr>
              <a:t>Fraktalna kompresija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90" name="Straight Arrow Connector 4"/>
          <p:cNvCxnSpPr/>
          <p:nvPr/>
        </p:nvCxnSpPr>
        <p:spPr>
          <a:xfrm>
            <a:off x="1001520" y="4962240"/>
            <a:ext cx="25722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1" name="Straight Arrow Connector 6"/>
          <p:cNvCxnSpPr/>
          <p:nvPr/>
        </p:nvCxnSpPr>
        <p:spPr>
          <a:xfrm flipV="1">
            <a:off x="999000" y="2356560"/>
            <a:ext cx="1080" cy="260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2" name="Rectangle 8"/>
          <p:cNvSpPr/>
          <p:nvPr/>
        </p:nvSpPr>
        <p:spPr>
          <a:xfrm>
            <a:off x="1001880" y="2962440"/>
            <a:ext cx="2286000" cy="200016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12"/>
          <p:cNvSpPr/>
          <p:nvPr/>
        </p:nvSpPr>
        <p:spPr>
          <a:xfrm>
            <a:off x="1001880" y="3247920"/>
            <a:ext cx="2286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14"/>
          <p:cNvSpPr/>
          <p:nvPr/>
        </p:nvSpPr>
        <p:spPr>
          <a:xfrm>
            <a:off x="1001880" y="4105440"/>
            <a:ext cx="22860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15"/>
          <p:cNvSpPr/>
          <p:nvPr/>
        </p:nvSpPr>
        <p:spPr>
          <a:xfrm>
            <a:off x="1001880" y="4390920"/>
            <a:ext cx="2286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16"/>
          <p:cNvSpPr/>
          <p:nvPr/>
        </p:nvSpPr>
        <p:spPr>
          <a:xfrm>
            <a:off x="1001880" y="4676760"/>
            <a:ext cx="2286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17"/>
          <p:cNvSpPr/>
          <p:nvPr/>
        </p:nvSpPr>
        <p:spPr>
          <a:xfrm>
            <a:off x="1001880" y="3819600"/>
            <a:ext cx="22860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18"/>
          <p:cNvSpPr/>
          <p:nvPr/>
        </p:nvSpPr>
        <p:spPr>
          <a:xfrm>
            <a:off x="1001880" y="3533760"/>
            <a:ext cx="2286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99"/>
          <p:cNvSpPr/>
          <p:nvPr/>
        </p:nvSpPr>
        <p:spPr>
          <a:xfrm flipV="1">
            <a:off x="1285920" y="2962440"/>
            <a:ext cx="1440" cy="20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102"/>
          <p:cNvSpPr/>
          <p:nvPr/>
        </p:nvSpPr>
        <p:spPr>
          <a:xfrm flipV="1">
            <a:off x="1571760" y="2962440"/>
            <a:ext cx="144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03"/>
          <p:cNvSpPr/>
          <p:nvPr/>
        </p:nvSpPr>
        <p:spPr>
          <a:xfrm flipV="1">
            <a:off x="1856520" y="2962440"/>
            <a:ext cx="180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04"/>
          <p:cNvSpPr/>
          <p:nvPr/>
        </p:nvSpPr>
        <p:spPr>
          <a:xfrm flipV="1">
            <a:off x="2142360" y="2962440"/>
            <a:ext cx="180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105"/>
          <p:cNvSpPr/>
          <p:nvPr/>
        </p:nvSpPr>
        <p:spPr>
          <a:xfrm flipV="1">
            <a:off x="2428920" y="2962440"/>
            <a:ext cx="144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06"/>
          <p:cNvSpPr/>
          <p:nvPr/>
        </p:nvSpPr>
        <p:spPr>
          <a:xfrm flipV="1">
            <a:off x="2714760" y="2962440"/>
            <a:ext cx="144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107"/>
          <p:cNvSpPr/>
          <p:nvPr/>
        </p:nvSpPr>
        <p:spPr>
          <a:xfrm flipV="1">
            <a:off x="2999520" y="2962440"/>
            <a:ext cx="180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Straight Arrow Connector 145"/>
          <p:cNvCxnSpPr/>
          <p:nvPr/>
        </p:nvCxnSpPr>
        <p:spPr>
          <a:xfrm>
            <a:off x="4857840" y="5000760"/>
            <a:ext cx="26532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8" name="Straight Arrow Connector 146"/>
          <p:cNvCxnSpPr/>
          <p:nvPr/>
        </p:nvCxnSpPr>
        <p:spPr>
          <a:xfrm flipV="1">
            <a:off x="4856760" y="2428560"/>
            <a:ext cx="1080" cy="257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9" name="Rectangle 147"/>
          <p:cNvSpPr/>
          <p:nvPr/>
        </p:nvSpPr>
        <p:spPr>
          <a:xfrm>
            <a:off x="4857840" y="3000240"/>
            <a:ext cx="2357280" cy="200052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61"/>
          <p:cNvSpPr/>
          <p:nvPr/>
        </p:nvSpPr>
        <p:spPr>
          <a:xfrm>
            <a:off x="5857920" y="3429000"/>
            <a:ext cx="714240" cy="642960"/>
          </a:xfrm>
          <a:prstGeom prst="rect">
            <a:avLst/>
          </a:prstGeom>
          <a:solidFill>
            <a:srgbClr val="ffc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62"/>
          <p:cNvSpPr/>
          <p:nvPr/>
        </p:nvSpPr>
        <p:spPr>
          <a:xfrm>
            <a:off x="1859040" y="3819600"/>
            <a:ext cx="277560" cy="285840"/>
          </a:xfrm>
          <a:prstGeom prst="rect">
            <a:avLst/>
          </a:prstGeom>
          <a:solidFill>
            <a:srgbClr val="3b3b3b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Curved Connector 165"/>
          <p:cNvCxnSpPr>
            <a:stCxn id="510" idx="0"/>
            <a:endCxn id="511" idx="0"/>
          </p:cNvCxnSpPr>
          <p:nvPr/>
        </p:nvCxnSpPr>
        <p:spPr>
          <a:xfrm rot="5400000">
            <a:off x="3909960" y="1514160"/>
            <a:ext cx="391320" cy="4218840"/>
          </a:xfrm>
          <a:prstGeom prst="curvedConnector5">
            <a:avLst>
              <a:gd name="adj1" fmla="val -256998"/>
              <a:gd name="adj2" fmla="val 50000"/>
              <a:gd name="adj3" fmla="val -256998"/>
            </a:avLst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3" name="TextBox 169"/>
          <p:cNvSpPr/>
          <p:nvPr/>
        </p:nvSpPr>
        <p:spPr>
          <a:xfrm>
            <a:off x="3714840" y="2071800"/>
            <a:ext cx="1071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hr-H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70"/>
          <p:cNvSpPr/>
          <p:nvPr/>
        </p:nvSpPr>
        <p:spPr>
          <a:xfrm>
            <a:off x="1144440" y="50338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blokovi unutar s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72"/>
          <p:cNvSpPr/>
          <p:nvPr/>
        </p:nvSpPr>
        <p:spPr>
          <a:xfrm>
            <a:off x="4929120" y="50720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menski blokovi unutar s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25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AD5C-C9AF-46BE-AEE4-74D7C283B80E}" type="slidenum">
              <a:rPr b="0" lang="hr-HR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Arial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00000"/>
                </a:solidFill>
                <a:latin typeface="Franklin Gothic Book"/>
              </a:rPr>
              <a:t>Genetski algoritam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urnirska selekcija, elitiz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romosom niz zapisa o transformacija, jedan po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blo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enetskom algoritmu prepušteno podešavanje koordinata i izometrije domenskih blok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ontrast i luminancija na temelju metode najmanjih kvadr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2A97-B870-453C-92A2-11DFF5D33EBF}" type="slidenum">
              <a:rPr b="0" lang="hr-HR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Arial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00000"/>
                </a:solidFill>
                <a:latin typeface="Franklin Gothic Book"/>
              </a:rPr>
              <a:t>Genetski algoritam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rižanje uzima najbolje dijelove roditelja, inače slaba konvergen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utacija unosi šum u parametre transformac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7430-95F0-47F4-8455-3ECEE536696E}" type="slidenum">
              <a:rPr b="0" lang="hr-HR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Arial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00000"/>
                </a:solidFill>
                <a:latin typeface="Franklin Gothic Book"/>
              </a:rPr>
              <a:t>Zapi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Jedan zapis o transformaciji-36 bit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7 bitova za x koordinatu domenskog blo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7 bitova za y koordinatu domenskog blo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3 bita za izometr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10 bita za kontr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9 bita za pomak svjet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range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blokovima veličine 4x4 piksela, stupanj kompresije iznosi 3.55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EE5F-11F0-4781-9C9B-0D1B88D4E30C}" type="slidenum">
              <a:rPr b="0" lang="hr-HR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Arial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00000"/>
                </a:solidFill>
                <a:latin typeface="Franklin Gothic Book"/>
              </a:rPr>
              <a:t>Dekodiranje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terativnom primjenom transformacija nad proizvoljnom početnom slik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stupak će konvergirati prema željenoj sl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obivene slike mogu izgledati kockasto, pa se rubovi blokova “zaglađuju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usjedni pikseli različitih blokova a i b dobivaju nove vrijedno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7872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" descr=""/>
          <p:cNvPicPr/>
          <p:nvPr/>
        </p:nvPicPr>
        <p:blipFill>
          <a:blip r:embed="rId1"/>
          <a:stretch/>
        </p:blipFill>
        <p:spPr>
          <a:xfrm>
            <a:off x="3286080" y="5643720"/>
            <a:ext cx="1666800" cy="5713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2"/>
          <a:stretch/>
        </p:blipFill>
        <p:spPr>
          <a:xfrm>
            <a:off x="5429160" y="5643720"/>
            <a:ext cx="1650960" cy="571320"/>
          </a:xfrm>
          <a:prstGeom prst="rect">
            <a:avLst/>
          </a:prstGeom>
          <a:ln w="0">
            <a:noFill/>
          </a:ln>
        </p:spPr>
      </p:pic>
      <p:sp>
        <p:nvSpPr>
          <p:cNvPr id="532" name="Slide Number Placeholder 8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7200-2E56-4131-9437-8801EEE6CE38}" type="slidenum">
              <a:rPr b="0" lang="hr-HR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Arial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00000"/>
                </a:solidFill>
                <a:latin typeface="Franklin Gothic Book"/>
              </a:rPr>
              <a:t>Dekodiranje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ekodiranje se može vršiti na višim rezoluc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dređena vrsta fraktalne intepo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35D4-36B9-456D-9CC1-EB3253176E1E}" type="slidenum">
              <a:rPr b="0" lang="hr-HR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r>
              <a:rPr b="0" lang="hr-HR" sz="1000" spc="-1" strike="noStrike">
                <a:solidFill>
                  <a:srgbClr val="292929"/>
                </a:solidFill>
                <a:latin typeface="Arial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8:20:52Z</dcterms:created>
  <dc:creator>Vinko</dc:creator>
  <dc:description/>
  <dc:language>en-US</dc:language>
  <cp:lastModifiedBy>Vinko</cp:lastModifiedBy>
  <dcterms:modified xsi:type="dcterms:W3CDTF">2010-01-14T09:09:44Z</dcterms:modified>
  <cp:revision>38</cp:revision>
  <dc:subject/>
  <dc:title>Fraktalna kompresija Slika</dc:title>
</cp:coreProperties>
</file>