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1"/>
      <c:rotY val="2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Brute force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3340</c:v>
                </c:pt>
                <c:pt idx="1">
                  <c:v>1857</c:v>
                </c:pt>
                <c:pt idx="2">
                  <c:v>237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ohlepni algoritam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3350</c:v>
                </c:pt>
                <c:pt idx="1">
                  <c:v>1950</c:v>
                </c:pt>
                <c:pt idx="2">
                  <c:v>2487</c:v>
                </c:pt>
                <c:pt idx="3">
                  <c:v>12425</c:v>
                </c:pt>
                <c:pt idx="4">
                  <c:v>1129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Genetski algoritam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3340</c:v>
                </c:pt>
                <c:pt idx="1">
                  <c:v>1857</c:v>
                </c:pt>
                <c:pt idx="2">
                  <c:v>2370</c:v>
                </c:pt>
                <c:pt idx="3">
                  <c:v>13300</c:v>
                </c:pt>
                <c:pt idx="4">
                  <c:v>10860</c:v>
                </c:pt>
              </c:numCache>
            </c:numRef>
          </c:val>
        </c:ser>
        <c:gapWidth val="100"/>
        <c:shape val="box"/>
        <c:axId val="84655914"/>
        <c:axId val="25465625"/>
        <c:axId val="0"/>
      </c:bar3DChart>
      <c:catAx>
        <c:axId val="84655914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Primjer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65625"/>
        <c:crosses val="autoZero"/>
        <c:auto val="1"/>
        <c:lblAlgn val="ctr"/>
        <c:lblOffset val="100"/>
        <c:noMultiLvlLbl val="0"/>
      </c:catAx>
      <c:valAx>
        <c:axId val="25465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Cijena (manje je bolje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55914"/>
        <c:crosses val="autoZero"/>
        <c:crossBetween val="between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D33F9-90BE-47E7-8287-213A4B84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16C15-2342-490D-B0A8-EBAE9E60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83219-ACE9-4A9D-875C-4C349953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475B1-57CE-491F-AD67-B5EEC3880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7F81A-B347-428B-A72C-988385BE1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B0D7F-15CC-433D-872E-2FE6D92F3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EB2CC-07E1-4174-B3F6-D1E767A4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8971-4F55-4351-A510-424F8353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6A73B-26DF-4818-B289-7F5F24D0E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D5E74-E145-4B4A-B8B6-69D05ABD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F1119-26E3-425F-B324-4F143319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B58D2-FCFD-4A29-8C3E-D8DDBFD27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6DF02-2377-4748-B0C3-B04FDCE0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106F9-714B-4803-9F5C-7A477FA2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C391-BECB-4EA7-B2FD-9A83DB59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50A0B-1D8C-41A3-857B-A200441A3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AE881-DC2C-496D-8993-8A933BB3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3A05E-8E57-469F-929A-4BF908DD7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84958-DF3D-4357-AC07-F9A4451EF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AFDE3-2854-4226-A1CE-C172344C9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4AC99-9B08-4787-A02B-84A84BEE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179F1-CA65-41A8-AC3F-BCBF8B18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34DEA-A3BE-4F0A-A293-3594993E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F4D3-CC01-4EFF-BCB3-B7BC921E7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FE0A0-1F6E-4D68-A1E5-2375B8BAA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8D3-E197-4D8E-B7A1-03BD755B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1F5-5C10-4E8B-BE5B-3C0DDB1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A5F-4609-431A-8495-603A443F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8F0-A7D9-49B8-B834-E8EDF050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93CA-CF1B-47CF-A4FF-80EBC5E7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93D-16F9-4ABB-AFA1-3E8C6932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C5D-8A78-41F8-A99C-A0343838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31F-E2DD-4FCE-87D5-403245AB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49D9-C0A5-4042-BFFC-6760A79D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5D6-E319-464A-8366-82F2B20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0CE-68D2-4F76-AB44-692B462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E13-191B-4F1A-A0FD-9DBFEAD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81B7-BABD-492D-B0A4-DB13ED1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8D39-733B-4C12-953F-A37A318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7AEA-E778-4A2A-9893-D464F64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B45-B13C-4C80-9522-FDC8C140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4012200"/>
            <a:ext cx="264924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CE8A-480A-44A9-B1DF-3673133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1E0-0E2B-4824-9293-82F02362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D2B-8753-4B1F-84C7-545ED8F1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AB0-1E12-4045-9CF2-E7F547C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50B-D707-4F94-8B8E-5132F2A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BA1-E9F6-40A3-B5F6-FA9B7425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012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CC9-9254-4DCA-B60C-50E0707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81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E13-64D6-4FBD-9756-C9FB342A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64839E-C5B2-4D41-9716-EBF69A1AD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6D879D-32A2-488B-8367-36F7D3A3C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0B2D99-2103-45F7-9C48-05EB75DE8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7240" y="1619280"/>
            <a:ext cx="7772400" cy="29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512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rimjena genetskog algoritma na problem kupovine</a:t>
            </a:r>
            <a:endParaRPr b="0" lang="en-US" sz="66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160640"/>
            <a:ext cx="9144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minarski r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020000" y="5870520"/>
            <a:ext cx="180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o Osva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1B07DB-B060-479F-92A8-15C811C22A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uboptimalna rješenj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ko već nije moguće pronaći optimalno rješenje, možemo li pronaći dovoljno dobro rješen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ak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hlepni algorit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 obzirom na kompleksnost ovog problema, teško je pronaći algoritam koji će naći razumno dobro rješe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tski algorit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dući da je genetski algoritam primjenjiv na rješavanje široke klase kombinatoričkih i optimizacijskih problema, čini se kao dobar izb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E126F-5793-451F-B411-3BDBE42160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enetski algoritam – uvod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asniva se na Darwinovoj teoriji evolu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dinke se izmjenjuju kroz generaci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križanj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vaju jedinki nastaje nova jedinka koja ima genetski materijal sličan roditeljsk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 križanju može doći do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utacij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– nova jedinka (malo) izmjeni genetski materij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jbolje jedinke preživljaju, a ostale izumi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 svakoj generaciji ima približno jednak broj jedin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edinke predstavljaju rješ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A30B91-8C85-41BC-8A54-19B028EE3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imjena – izbor genotip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 genotipu ćemo pamtiti koje ponude su trenutno prihvać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otip ćemo predstaviti vektorom fiksne duljine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gdje je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ukupan broj ponuda na trži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ko je na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tom mjestu zapisan nenegativan cijeli broj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GB" sz="3200" spc="-1" strike="noStrike" baseline="-33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to znači da je ponuda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ta ponuda prihvaćena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GB" sz="3200" spc="-1" strike="noStrike" baseline="-33000">
                <a:solidFill>
                  <a:srgbClr val="ffffff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GB" sz="3200" spc="-1" strike="noStrike" baseline="-33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je ograničen odozgo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EF0A94-B1A9-42E1-B715-C264E93E9A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Genotip - primje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nuda #1 – 12 k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x sendvi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x 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nuda #2 – 25 k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x sendvi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3x 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nuda #3 – 7 k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x sendvi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nuda #4 – 6 k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x 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x slamk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0161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ba kupit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x sendvi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8x 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40360" y="34196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580000" y="34196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119640" y="34196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659640" y="34196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5040360" y="34196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580000" y="34196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119640" y="34196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6659640" y="34196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559640" y="3473280"/>
            <a:ext cx="107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040360" y="41403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5580000" y="41403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119640" y="41403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6659640" y="41403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5040360" y="41403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5580000" y="41403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6119640" y="41403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6659640" y="41403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5040360" y="485928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5580000" y="485928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6119640" y="485928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6659640" y="485928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5040360" y="485928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5580000" y="485928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7"/>
          <p:cNvSpPr/>
          <p:nvPr/>
        </p:nvSpPr>
        <p:spPr>
          <a:xfrm>
            <a:off x="6119640" y="485928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6659640" y="485928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5040360" y="558000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5580000" y="558000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6119640" y="558000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6659640" y="558000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5040360" y="558000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5580000" y="558000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6119640" y="558000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6"/>
          <p:cNvSpPr/>
          <p:nvPr/>
        </p:nvSpPr>
        <p:spPr>
          <a:xfrm>
            <a:off x="6659640" y="558000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7559640" y="4192560"/>
            <a:ext cx="107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7559640" y="4913280"/>
            <a:ext cx="107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7559640" y="5634000"/>
            <a:ext cx="107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BD3689-7DBD-406B-B7FD-C9DFC7F9E8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imjena – mutacij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sumično odaberemo nekoliko elemenata vekt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vaki element promijenimo u nasumičnu vrijed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taciju obavljamo vrlo rijet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čnije, mutacija se događa s vjerojatnošću između 0.01 I 0.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ko je mutacija prečesta, dolazi do prevelike raspršenosti, te se time degradira korisnost genetskog algorit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921555-F08D-4016-B98F-530EC8DB6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Mutacija – primje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979640" y="19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419640" y="19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859280" y="19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700360" y="19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140360" y="19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979640" y="1979640"/>
            <a:ext cx="3598560" cy="719280"/>
            <a:chOff x="1979640" y="1979640"/>
            <a:chExt cx="3598560" cy="719280"/>
          </a:xfrm>
        </p:grpSpPr>
        <p:sp>
          <p:nvSpPr>
            <p:cNvPr id="182" name="Rectangle 8"/>
            <p:cNvSpPr/>
            <p:nvPr/>
          </p:nvSpPr>
          <p:spPr>
            <a:xfrm>
              <a:off x="1979640" y="1979640"/>
              <a:ext cx="72036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3418920" y="1979640"/>
              <a:ext cx="72036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4857840" y="1979640"/>
              <a:ext cx="72036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2700000" y="1979640"/>
              <a:ext cx="72036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4139280" y="1979640"/>
              <a:ext cx="720360" cy="71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308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Rectangle 13"/>
          <p:cNvSpPr/>
          <p:nvPr/>
        </p:nvSpPr>
        <p:spPr>
          <a:xfrm>
            <a:off x="2700360" y="297036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140360" y="297036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79" idx="2"/>
            <a:endCxn id="187" idx="0"/>
          </p:cNvCxnSpPr>
          <p:nvPr/>
        </p:nvCxnSpPr>
        <p:spPr>
          <a:xfrm>
            <a:off x="3060720" y="2700360"/>
            <a:ext cx="2160" cy="27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0" name="AutoShape 16"/>
          <p:cNvCxnSpPr>
            <a:stCxn id="180" idx="2"/>
            <a:endCxn id="188" idx="0"/>
          </p:cNvCxnSpPr>
          <p:nvPr/>
        </p:nvCxnSpPr>
        <p:spPr>
          <a:xfrm>
            <a:off x="4500720" y="2700360"/>
            <a:ext cx="2160" cy="27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13280"/>
            <a:ext cx="8229600" cy="24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očimo da se drugi element promijenio iz 5 u 2, a četvrti iz 0 u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22222E-006 L -4.44444E-006 0.14653 E">
                                      <p:cBhvr>
                                        <p:cTn id="48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2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2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2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3D2341-6264-4FEA-839C-30622B931D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imjena – križanj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rižanje vršimo na sljedeći nač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zmemo 2 vektora od roditelja, nanižemo ih jedan ispod drugog, a između stvorimo novi vektor jednake dulj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ravimo rez na jednom 2 mjesta, čime dobivamo 3 cijeline susjednih elemen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vi vektor popunimo na sljedeći nač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ko element pripada parnoj cijelini, uzimamo odgovarajući element od prvog rodite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ko element pripada neparnoj cijelini, uzimamo odgovarajući element od drugog rodite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1CE8CA-B945-4EEC-B443-5D6F53A41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Križanje – primje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579640" y="1599840"/>
            <a:ext cx="31100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sr-Latn-C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39640" y="161928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260360" y="161928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979640" y="161928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700360" y="161928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419640" y="161928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39640" y="270036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1260360" y="270036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979640" y="270036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700360" y="2700360"/>
            <a:ext cx="720720" cy="7207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419640" y="270036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1260360" y="378000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539640" y="378000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1979640" y="378000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2700360" y="378000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3419640" y="3780000"/>
            <a:ext cx="720720" cy="720720"/>
          </a:xfrm>
          <a:prstGeom prst="rec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AutoShape 18"/>
          <p:cNvCxnSpPr>
            <a:stCxn id="209" idx="0"/>
            <a:endCxn id="203" idx="2"/>
          </p:cNvCxnSpPr>
          <p:nvPr/>
        </p:nvCxnSpPr>
        <p:spPr>
          <a:xfrm flipV="1">
            <a:off x="899640" y="3418920"/>
            <a:ext cx="2520" cy="3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4" name="AutoShape 19"/>
          <p:cNvCxnSpPr>
            <a:endCxn id="204" idx="2"/>
          </p:cNvCxnSpPr>
          <p:nvPr/>
        </p:nvCxnSpPr>
        <p:spPr>
          <a:xfrm flipV="1">
            <a:off x="1619280" y="3418920"/>
            <a:ext cx="2160" cy="36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5" name="AutoShape 20"/>
          <p:cNvCxnSpPr>
            <a:stCxn id="200" idx="2"/>
            <a:endCxn id="205" idx="0"/>
          </p:cNvCxnSpPr>
          <p:nvPr/>
        </p:nvCxnSpPr>
        <p:spPr>
          <a:xfrm>
            <a:off x="2340000" y="2339640"/>
            <a:ext cx="2160" cy="36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6" name="AutoShape 21"/>
          <p:cNvCxnSpPr>
            <a:stCxn id="201" idx="2"/>
            <a:endCxn id="206" idx="0"/>
          </p:cNvCxnSpPr>
          <p:nvPr/>
        </p:nvCxnSpPr>
        <p:spPr>
          <a:xfrm>
            <a:off x="3060720" y="2339640"/>
            <a:ext cx="2160" cy="36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7" name="AutoShape 22"/>
          <p:cNvCxnSpPr>
            <a:stCxn id="207" idx="2"/>
            <a:endCxn id="212" idx="0"/>
          </p:cNvCxnSpPr>
          <p:nvPr/>
        </p:nvCxnSpPr>
        <p:spPr>
          <a:xfrm>
            <a:off x="3780000" y="3419280"/>
            <a:ext cx="2160" cy="36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headEnd len="med" type="triangle" w="med"/>
          </a:ln>
        </p:spPr>
      </p:cxnSp>
      <p:sp>
        <p:nvSpPr>
          <p:cNvPr id="218" name="Freeform 23"/>
          <p:cNvSpPr/>
          <p:nvPr/>
        </p:nvSpPr>
        <p:spPr>
          <a:xfrm>
            <a:off x="3419640" y="1260360"/>
            <a:ext cx="1440" cy="3600720"/>
          </a:xfrm>
          <a:prstGeom prst="pie">
            <a:avLst/>
          </a:prstGeom>
          <a:noFill/>
          <a:ln w="54720">
            <a:solidFill>
              <a:srgbClr val="ff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24"/>
          <p:cNvSpPr/>
          <p:nvPr/>
        </p:nvSpPr>
        <p:spPr>
          <a:xfrm>
            <a:off x="1979640" y="1260360"/>
            <a:ext cx="1440" cy="3600720"/>
          </a:xfrm>
          <a:prstGeom prst="pie">
            <a:avLst/>
          </a:prstGeom>
          <a:noFill/>
          <a:ln w="54720">
            <a:solidFill>
              <a:srgbClr val="ff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8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6E3AB3-D576-4B2F-A2F8-E4C7C23C1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imjena – evaluacija dobrot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ješenja koja zadovoljavaju ograničenja dobivaju nagradu koja je obrnuto proporcionalna s ukupnom cijenom (jer želimo proći što jeftini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B71879-4327-40AC-A269-2BDADA8FDD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imjena – evaluacija dobrot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ješenja koje ne zadovoljavaju ograničenja kažnjavaju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ina kazne ovisi o tome koliko je pojedino potencijalno rješenje daleko od toga da zadovolji ogranič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vako rješenje koje ne zadovoljava ograničenja dobiva kaznu koja je veća od bilo koje kazne koju može dobiti rješenje koje zadovoljava uvj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2F1A8A-A6B0-492C-BAD1-521330E67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Problem kupovin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Čovjek se kao kupac često nađe u poziciji kada treba nabaviti neke proizvode (usluge) sa tržiš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upac nekad želi nabaviti specifični proizv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ca-cola Zero 0.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-com MaxADSL Flat-rate pa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još češće kupac želi nabaviti proizvod koji zadovoljava neka ogranič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0.5 L bilo kojeg bezalkoholnog pić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at-rate pristup internetu (bilo kaka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FEFEDA-9BEB-4521-962F-1C425A6E33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imjena – evaluacija dobrot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D1AA26-2845-4633-AA2C-49331967F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gramska implementacij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zrađen je program koji rješava spomenuti problem kupovine na sljedeće nač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crpnim pretraživa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hlepnim algorit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tskim algorit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gram je napisan u programskom jeziku C++, a za potrebe ostvarenja genetskog algoritma korišten je ECF framework (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volutionary Computation Framewor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E1FA40-BC9D-4115-9DD9-9005FC25B2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ezultati simulacij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30040" y="11584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jbolji rezultati nakon 5 izvođenja programa na istom primjer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0440" y="2449440"/>
          <a:ext cx="8674200" cy="3605400"/>
        </p:xfrm>
        <a:graphic>
          <a:graphicData uri="http://schemas.openxmlformats.org/drawingml/2006/table">
            <a:tbl>
              <a:tblPr/>
              <a:tblGrid>
                <a:gridCol w="504720"/>
                <a:gridCol w="1839960"/>
                <a:gridCol w="2887920"/>
                <a:gridCol w="3441600"/>
              </a:tblGrid>
              <a:tr h="70164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#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ute forc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ohlepni algorita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Genetski algorita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168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713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7168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713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1776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F6FDA2-9E73-4C4C-9263-EECC0FDB4A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Rezultati simulacij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539640" y="1104840"/>
          <a:ext cx="8280360" cy="5375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9E3BC1-F5C7-48AD-8FDB-BE76B0EDB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2519280" y="270036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0" y="306540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VALA NA POZORNOSTI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346246-2B96-4DF5-A2AA-379C30293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davači i kupac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avač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ude mnoštvo proizv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jedinstvene cij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nude uključuju i više proizv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st na količ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zne pogodnosti npr. “3+1 grati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up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a unaprijed poznate kupovne žel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ti proizvod može nabaviti od raznih prodavač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staje na viš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stoji proći što jeftin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F974C8-475B-4A14-93C7-492E5FC12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Konfiguracija ponud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vodimo pojam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konfiguracije pon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je multiskup prihvaćenih pon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x Menu #03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x sendvič „sir-šunk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x sok, naranča, 0.2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x sok, naranča, 0.2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x Super ponuda #999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x set noževa od nehrđajućeg čel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x komplet Inox posuđ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E3C3E-6796-40AD-8AA7-E428D6BB5A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Vrste zahtjeva kupac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junktna ograničenja na proizv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 primjerak proizvoda → 1 zaht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mjer: 1x piće; 2x Coca-c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x Coca-cola, zero, 0.5 L 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x Coca-cola, light, 0.5 L 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x Coca-cola, 0.5 L; 1x Sprite, 0.5 L 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-disjunktna ogranič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 primjerak proizvoda → više zahtj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mjer: 1x piće; 2x Coca-c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x Coca-cola, zero, 0.5 L 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x Sprite, 0.5 L 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C1539B-A0CA-4FAD-92BE-A963261233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Vrste zahtjeva kupac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graničenja na prodava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upnja samo kod određenih prodavač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upnja od najviš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zličitih prodavač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graničenja na pon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ftinije od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k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ključuju određene proizv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graničenja na konfiguraciju pon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dređeni proizvodi ne smiju biti sku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žina kupljenih proizvoda manja od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1D1004-3001-4E50-B3A4-B3C985E400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Kako proći što jeftinije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ako proći najjeftinije moguć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žim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ptimaln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ješenje problema, pritom nas ne zanimaju suboptimalna rješ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tražujem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ijel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rostor rješ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ako proći “dovoljno jeftino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žimo neko rješenje koje j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voljno dob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da nađemo dovoljno dobro rješenje, ne znamo je li to rješenje ujedno i optimal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zlog tome je št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retražujemo cijeli prostor rješenja (engl.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earch spac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E50961-BD05-44C4-B36B-718031C15E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ohlepna strategij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upiti svaki proizvod pojedinačno po najpovoljnijoj cijen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aš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ato što postoje kombinirane ponude po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93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nu – npr. Sendvič + sok od jab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93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terdžent + odstranjivač mrl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ka druga pohlepna strategi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guće je pokazati da za ovaj problem ne postoji pohlepna strategija koja će naći optimalno rješe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A6A145-71F3-4586-B463-5141B46F4F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scrpna pretraga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probati sve moguć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 kraćem vremenskom roku, ponude su količinski ograničene, pa možemo probati uzeti sve količine svake ponude na tržiš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a svaku kombinaciju ponuda pogledamo koliko bi nas koštalo da ih sve prihvatime, te na taj način možemo dobiti optimalno rješe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liko bi to traja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ko pretpostavimo da postoji stotinjak kombiniranih ponuda na tržištu, izračun bi mogao trajati milijune god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6:05:10Z</dcterms:created>
  <dc:creator/>
  <dc:description/>
  <dc:language>en-US</dc:language>
  <cp:lastModifiedBy> </cp:lastModifiedBy>
  <dcterms:modified xsi:type="dcterms:W3CDTF">2010-05-31T19:31:33Z</dcterms:modified>
  <cp:revision>137</cp:revision>
  <dc:subject/>
  <dc:title>Business Template</dc:title>
</cp:coreProperties>
</file>