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DE0A-E47F-4657-8AC6-694443AA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7960" y="440712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6B61-3E15-45A0-B888-D8B50A71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9012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844E-B7B8-41D2-91B1-BE4284B6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9748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8664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796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9748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8664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B8D1-2AA1-48AA-84EE-4B7D8C10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8C19-36E6-4ADE-A116-24E4C62D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375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3E7E-A619-4816-B826-46A14329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375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D5CB-D2EA-4AD8-BDB9-42756534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A8D4-73C8-47C9-8CC1-158B27F2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DCA6-5D8A-49A0-9CE0-D5A2DB61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370240" y="1523880"/>
            <a:ext cx="7192800" cy="90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C628-F9E6-412D-A399-F18BA902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92FF-FDEB-4FC1-93DA-306BFBFB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375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3159-B87D-4CA3-8A99-EB143A6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9012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B2EA-639D-49CE-A00C-361B3933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855F-1CBC-44A6-98B5-4C00891C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7960" y="440712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57E0-F6D1-4582-8B9B-14EE42FA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9012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B503-FD34-4815-AFF2-CE1FAFA2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9748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8664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0796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9748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68664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0F7D-E72B-43FF-9C2F-803490C0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3DBC9-FEA5-4220-BDE0-52034C44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375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8EB2-EDFD-4AD0-8BC6-7C67AF46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375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4B25-F50D-4AB4-A0FF-00386C38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0FC7-115E-430C-894C-6E3DA0A4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FEA0-8B83-4827-BA6E-495D8B05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375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5F15-9AEE-496D-BC37-7DB0E041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370240" y="1523880"/>
            <a:ext cx="7192800" cy="90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04BC-D495-440E-80C6-9E69030B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B7E0-191A-4BD9-932C-9CFCB58A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9012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210A-AFDE-4B96-AA17-78815613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C0F9-613A-4516-9039-10CDF654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7960" y="440712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1064-C8E0-425C-84CF-7D6DABAA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9012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A916-DB18-48C9-BE50-4CF8569B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9748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8664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796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9748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8664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36A8-065C-4418-9CA4-AB380C98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C474-2953-4DA2-A2F2-E7EF14D2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375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CE7C-7CC7-40D6-A297-8AB1C76B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375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C506F-E924-45A5-B709-FA80A599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C612-3252-4314-A4B9-71B0DAD2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C81D3-42ED-46B1-A27F-A3D9964E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6C7B2-56F9-4666-B930-0760D1E1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370240" y="1523880"/>
            <a:ext cx="7192800" cy="90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4F6A-AC8B-40F0-AE8A-73EF66EE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5944-EC8B-41E5-BF8A-A80309B2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9012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1BDC6-ED87-4233-9D56-78209CD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504B-7F5C-4BCB-963C-863AB714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7960" y="440712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C052D-FB2E-4D9F-9B82-222B5811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9012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24257-FF67-4997-9599-7CE7A8FA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9748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86640" y="178236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796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9748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86640" y="4407120"/>
            <a:ext cx="29419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57FD-DB9C-4087-B995-AB661DE2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997C-9586-4296-8F51-316F2BE8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370240" y="1523880"/>
            <a:ext cx="7192800" cy="90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ED5D-4D49-4C44-8DEF-C53EE9EA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B3E7-40A9-44D1-8661-339D9D0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90120" y="440712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E418-9974-4AFD-AB65-9ABED53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90120" y="1782360"/>
            <a:ext cx="445896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7960" y="4407120"/>
            <a:ext cx="9137520" cy="23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A3D9-B5AD-4162-B0B2-60CD78F8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71480" y="6942240"/>
            <a:ext cx="321156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hr-H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360" y="6942240"/>
            <a:ext cx="236556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hr-HR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D99B8-ACFF-450C-BF73-B01E1EA22FA2}" type="slidenum">
              <a:rPr b="0" lang="hr-HR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159920" cy="604800"/>
            <a:chOff x="0" y="0"/>
            <a:chExt cx="10159920" cy="6048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317520" cy="59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8640" y="149400"/>
              <a:ext cx="97012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5760" y="149400"/>
              <a:ext cx="152280" cy="156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8040" y="0"/>
              <a:ext cx="155520" cy="154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8040" y="149400"/>
              <a:ext cx="155520" cy="156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04920" y="304920"/>
              <a:ext cx="150840" cy="1537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6160" y="150840"/>
              <a:ext cx="156960" cy="1540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5760" y="301680"/>
              <a:ext cx="152280" cy="154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4920" y="453960"/>
              <a:ext cx="150840" cy="1508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07600" y="507960"/>
            <a:ext cx="9139320" cy="151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507600" y="2201760"/>
            <a:ext cx="9139320" cy="431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18960" indent="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507600" y="6938640"/>
            <a:ext cx="2365560" cy="523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0159920" cy="7620120"/>
            <a:chOff x="0" y="0"/>
            <a:chExt cx="10159920" cy="762012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894120" cy="7620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1878120"/>
              <a:ext cx="8253360" cy="2814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185840"/>
              <a:ext cx="3184560" cy="3508560"/>
              <a:chOff x="0" y="1185840"/>
              <a:chExt cx="3184560" cy="3508560"/>
            </a:xfrm>
          </p:grpSpPr>
          <p:sp>
            <p:nvSpPr>
              <p:cNvPr id="55" name=""/>
              <p:cNvSpPr/>
              <p:nvPr/>
            </p:nvSpPr>
            <p:spPr>
              <a:xfrm>
                <a:off x="636480" y="3981600"/>
                <a:ext cx="639720" cy="712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6560" y="1878120"/>
                <a:ext cx="638280" cy="714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33680" y="1185840"/>
                <a:ext cx="650880" cy="7048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68280" y="3981600"/>
                <a:ext cx="649440" cy="712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33680" y="1878120"/>
                <a:ext cx="650880" cy="714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68280" y="2581200"/>
                <a:ext cx="649440" cy="7034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581200"/>
                <a:ext cx="647640" cy="703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06560" y="2581200"/>
                <a:ext cx="638280" cy="703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6480" y="3274920"/>
                <a:ext cx="639720" cy="716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68280" y="3274920"/>
                <a:ext cx="649440" cy="7160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507600" y="6942240"/>
            <a:ext cx="236556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471480" y="6942240"/>
            <a:ext cx="321156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hr-H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281360" y="6942240"/>
            <a:ext cx="236556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hr-HR" sz="13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53D3B-9F77-44AD-BE14-B155786F41E5}" type="slidenum">
              <a:rPr b="0" lang="hr-HR" sz="13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301560" y="2031480"/>
            <a:ext cx="6683400" cy="2451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3440" y="210600"/>
            <a:ext cx="7783560" cy="169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693440" y="2115720"/>
            <a:ext cx="7783560" cy="456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65600" y="6942240"/>
            <a:ext cx="211140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639960" y="6942240"/>
            <a:ext cx="321336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hr-H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1693800" y="6942240"/>
            <a:ext cx="143352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hr-H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8D2A164-E4C0-44EC-B4A9-8F283884C7FE}" type="slidenum">
              <a:rPr b="0" lang="hr-H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523880" y="333360"/>
            <a:ext cx="1800" cy="144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920" y="932040"/>
            <a:ext cx="253800" cy="253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0120" y="932040"/>
            <a:ext cx="253800" cy="25380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30320" y="932040"/>
            <a:ext cx="253800" cy="2538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70240" y="1523880"/>
            <a:ext cx="7192800" cy="194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7873920" y="6942240"/>
            <a:ext cx="168912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4233600" y="6942240"/>
            <a:ext cx="321156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hr-H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2455920" y="6942240"/>
            <a:ext cx="1349280" cy="50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hr-HR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2C30858-5EC7-484A-99EB-4F317A35AF1F}" type="slidenum">
              <a:rPr b="0" lang="hr-H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16080" y="1353960"/>
            <a:ext cx="1800" cy="228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1080" y="2336760"/>
            <a:ext cx="387360" cy="387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2240" y="2338560"/>
            <a:ext cx="387360" cy="38700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63760" y="2338560"/>
            <a:ext cx="387360" cy="3870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507960" y="1782360"/>
            <a:ext cx="913752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ransaction_processing" TargetMode="External"/><Relationship Id="rId2" Type="http://schemas.openxmlformats.org/officeDocument/2006/relationships/hyperlink" Target="http://en.wikipedia.org/wiki/Transaction_processing" TargetMode="External"/><Relationship Id="rId3" Type="http://schemas.openxmlformats.org/officeDocument/2006/relationships/hyperlink" Target="http://en.wikipedia.org/wiki/ACID" TargetMode="External"/><Relationship Id="rId4" Type="http://schemas.openxmlformats.org/officeDocument/2006/relationships/hyperlink" Target="http://en.wikipedia.org/wiki/ACID" TargetMode="External"/><Relationship Id="rId5" Type="http://schemas.openxmlformats.org/officeDocument/2006/relationships/hyperlink" Target="http://en.wikipedia.org/wiki/Two-phase_commit_protocol" TargetMode="External"/><Relationship Id="rId6" Type="http://schemas.openxmlformats.org/officeDocument/2006/relationships/hyperlink" Target="http://www.fer.hr/predmet/rznu" TargetMode="External"/><Relationship Id="rId7" Type="http://schemas.openxmlformats.org/officeDocument/2006/relationships/hyperlink" Target="http://www.fer.hr/predmet/rznu" TargetMode="External"/><Relationship Id="rId8" Type="http://schemas.openxmlformats.org/officeDocument/2006/relationships/hyperlink" Target="http://www.djangobook.com/en/2.0/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603160" y="2139840"/>
            <a:ext cx="676908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EMIN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6880" y="373860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ransakcije u sustavu zasnovanom na uslugam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r-HR" sz="3300" spc="-1" strike="noStrike">
                <a:solidFill>
                  <a:srgbClr val="000000"/>
                </a:solidFill>
                <a:latin typeface="Arial"/>
              </a:rPr>
              <a:t>Maja Lega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3300" spc="-1" strike="noStrike">
                <a:solidFill>
                  <a:srgbClr val="000000"/>
                </a:solidFill>
                <a:latin typeface="Arial"/>
              </a:rPr>
              <a:t>Voditelj: Doc.dr.sc. Domagoj Jakobović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47880" y="573120"/>
            <a:ext cx="867384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edostaci "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Two phase commi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" protoko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kirajući protok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stranost prema odustajanju od transakci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631A-5765-4E74-B001-43D449E1AC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7960" y="471240"/>
            <a:ext cx="9142560" cy="1595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imjeri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7960" y="2201760"/>
            <a:ext cx="9142560" cy="4407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D4A6-9986-467C-8932-D1675D56E55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D9F8-025E-4280-92AA-890B45CB286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91540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A77D-5EF0-4840-AEC3-2BDBEE1946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98520" y="714240"/>
            <a:ext cx="9361440" cy="646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BBA0-1E87-4F64-9993-169C160FC3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6880" y="714240"/>
            <a:ext cx="9433080" cy="633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27E3-DD7D-492F-A4C5-9A3F613198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9829800" cy="66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4CBFA-7335-4665-9F36-3F861666CE2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96012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24E3-00C6-418D-910D-0BA53AC270A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96012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FDA7-C3B4-41AA-8993-3C4E9DCBA59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4160" y="1146240"/>
            <a:ext cx="9658080" cy="55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1" marL="425160" indent="-3193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252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wcomer, E. Understanding web services : XML, WSDL, SOAP and UD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3193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252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action processing, 18.3. 2010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ransaction proces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en.wikipedia.org/wiki/Transaction_processin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20.4.201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3193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252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ID, 8.4.2010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CID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en.wikipedia.org/wiki/ACI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20.4.201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3193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252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- phase commit protocol, 19.4.2010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Two - phase commit protoco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en.wikipedia.org/wiki/Two-phase_commit_protoco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21.4.201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3193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252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rbljić, S., Benc, I., Skuliber, I., 7. predavanje, 13.11.2009.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ačunarstvo zasnovano na uslugama : Transakcije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ww.fer.hr/predmet/rzn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19.4.201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3193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452520"/>
                <a:tab algn="l" pos="622440"/>
                <a:tab algn="l" pos="1079640"/>
                <a:tab algn="l" pos="1536840"/>
                <a:tab algn="l" pos="1994040"/>
                <a:tab algn="l" pos="2451240"/>
                <a:tab algn="l" pos="2908440"/>
                <a:tab algn="l" pos="3365640"/>
                <a:tab algn="l" pos="3822840"/>
                <a:tab algn="l" pos="4280040"/>
                <a:tab algn="l" pos="4737240"/>
                <a:tab algn="l" pos="5194440"/>
                <a:tab algn="l" pos="5651640"/>
                <a:tab algn="l" pos="6108840"/>
                <a:tab algn="l" pos="6566040"/>
                <a:tab algn="l" pos="7023240"/>
                <a:tab algn="l" pos="7480440"/>
                <a:tab algn="l" pos="7937640"/>
                <a:tab algn="l" pos="8394840"/>
                <a:tab algn="l" pos="8852040"/>
                <a:tab algn="l" pos="930924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Django Book: Version 2.0, 8.1.2009.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The Django Boo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djangobook.com/en/2.0/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7.3.201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8477-27BC-4517-9C14-9B0B72E52BC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7080" y="944280"/>
            <a:ext cx="835524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7520">
              <a:spcBef>
                <a:spcPts val="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kc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7520">
              <a:spcBef>
                <a:spcPts val="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phase comm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proto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7520">
              <a:spcBef>
                <a:spcPts val="77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je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77E3-4B03-49EA-8D67-10E8B74CC3A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99960" y="2009520"/>
            <a:ext cx="642780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vala na pažnji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839600" y="3738240"/>
            <a:ext cx="669924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itanja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7480" y="934560"/>
            <a:ext cx="829476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ansakci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ica rada nad sustavom koja se obavlja u potpunosti ili se ne obavl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Četiri osnovna svojstva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225360">
              <a:lnSpc>
                <a:spcPct val="95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djeljivost (eng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tomic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225360">
              <a:lnSpc>
                <a:spcPct val="95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sljednost (eng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sist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225360">
              <a:lnSpc>
                <a:spcPct val="95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vojenost (eng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225360">
              <a:lnSpc>
                <a:spcPct val="95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jnost (eng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abil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1426-BC2D-407F-B053-0F2EF5CB3D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6840" y="867960"/>
            <a:ext cx="827568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đudjelovanje transa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akcije se izvode nad više primjenskih sustava na Interne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rste međudjelovanja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225360">
              <a:lnSpc>
                <a:spcPct val="95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ljavo čitanje (eng. dirty re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225360">
              <a:lnSpc>
                <a:spcPct val="95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ponovljivo čitanje (eng. nonrepeatable re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225360">
              <a:lnSpc>
                <a:spcPct val="95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postojano čitanje (eng. phantom re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35FA-75ED-4FBC-B9D4-15FC980966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7680" y="763560"/>
            <a:ext cx="877068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"Two phase commit"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protok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spodijeljeni algoritam za koordinaciju svih procesa koji sudjeluju u raspodijeljenim nedjeljivim transakcij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kol usuglašav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rsta protokola za nedjeljive transakc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vije faze :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225360">
              <a:lnSpc>
                <a:spcPct val="95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šalji  - zahtjevaj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252440" indent="-225360">
              <a:lnSpc>
                <a:spcPct val="95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za izvršavan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F214-6064-4A63-88AE-22A4538E41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88880" y="968040"/>
            <a:ext cx="794700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gorit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an čvor -&gt; voditel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tali čvorovi -&gt; radn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kol inicira voditelj nakon što je posljednji korak transakcije dosegn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84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nici onda odgovaraju s "Da" ili "Ne" ovisno o uspješnosti transakci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4ECE-F1DF-4FDF-97CC-E6C3C14626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50760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za pošalji - zahtjeva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8320" y="2441520"/>
            <a:ext cx="3095640" cy="1366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ditel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9600" y="5178600"/>
            <a:ext cx="9363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ni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71600" y="5178600"/>
            <a:ext cx="100800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nik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914200" y="3954600"/>
            <a:ext cx="1017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56320" y="395460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5960" y="6473880"/>
            <a:ext cx="1224000" cy="7207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76320" y="6473880"/>
            <a:ext cx="1171440" cy="7207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16320" y="5681520"/>
            <a:ext cx="720720" cy="360360"/>
          </a:xfrm>
          <a:custGeom>
            <a:avLst/>
            <a:gdLst>
              <a:gd name="textAreaLeft" fmla="*/ 126720 w 720720"/>
              <a:gd name="textAreaRight" fmla="*/ 520560 w 720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03960" y="5681520"/>
            <a:ext cx="647640" cy="360360"/>
          </a:xfrm>
          <a:custGeom>
            <a:avLst/>
            <a:gdLst>
              <a:gd name="textAreaLeft" fmla="*/ 113760 w 647640"/>
              <a:gd name="textAreaRight" fmla="*/ 468000 w 647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92320" y="6473880"/>
            <a:ext cx="1224000" cy="718920"/>
          </a:xfrm>
          <a:prstGeom prst="horizontalScroll">
            <a:avLst>
              <a:gd name="adj" fmla="val 125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51600" y="6473880"/>
            <a:ext cx="1223640" cy="718920"/>
          </a:xfrm>
          <a:prstGeom prst="horizontalScroll">
            <a:avLst>
              <a:gd name="adj" fmla="val 125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618920" y="5754600"/>
            <a:ext cx="585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9600" y="575460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506560" y="5754600"/>
            <a:ext cx="7304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4680" y="5754600"/>
            <a:ext cx="647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 rot="18900000">
            <a:off x="2913840" y="4030200"/>
            <a:ext cx="863640" cy="505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p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700000">
            <a:off x="5463720" y="4248000"/>
            <a:ext cx="969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79600" y="4021200"/>
            <a:ext cx="1008360" cy="10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938920" y="3876840"/>
            <a:ext cx="874800" cy="10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8900000">
            <a:off x="3279600" y="4462200"/>
            <a:ext cx="132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3060000">
            <a:off x="5930280" y="4110120"/>
            <a:ext cx="1303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B22C-169E-4400-AC82-85F55D7324C7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960" y="50760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za </a:t>
            </a: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izvršavanj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uspje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03600" y="2201760"/>
            <a:ext cx="5400720" cy="492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0800" indent="-3175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82080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šalje poruku o uspješnom završetku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82080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75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82080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završava operaciju i oslobađa sve </a:t>
            </a:r>
            <a:r>
              <a:rPr b="0" lang="hr-HR" sz="2500" spc="-1" strike="noStrike">
                <a:solidFill>
                  <a:srgbClr val="000000"/>
                </a:solidFill>
                <a:latin typeface="Arial"/>
              </a:rPr>
              <a:t>zaključan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sur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82080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75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82080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šalje potvrdu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oditelj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82080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175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82080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oditel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završava transakciju kada primi sve potvrde. 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82080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7752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7600" y="2009880"/>
            <a:ext cx="2376720" cy="936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ditel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95600" y="4314960"/>
            <a:ext cx="93672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ni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4320" y="4314960"/>
            <a:ext cx="100800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nik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82200" y="3162240"/>
            <a:ext cx="1017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6680" y="3089160"/>
            <a:ext cx="93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6880" y="4818240"/>
            <a:ext cx="720720" cy="360360"/>
          </a:xfrm>
          <a:custGeom>
            <a:avLst/>
            <a:gdLst>
              <a:gd name="textAreaLeft" fmla="*/ 126720 w 720720"/>
              <a:gd name="textAreaRight" fmla="*/ 520560 w 720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11600" y="4818240"/>
            <a:ext cx="647640" cy="360360"/>
          </a:xfrm>
          <a:custGeom>
            <a:avLst/>
            <a:gdLst>
              <a:gd name="textAreaLeft" fmla="*/ 113760 w 647640"/>
              <a:gd name="textAreaRight" fmla="*/ 468000 w 647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3000000">
            <a:off x="2894040" y="3403440"/>
            <a:ext cx="11397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pje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99960" y="3013200"/>
            <a:ext cx="1008000" cy="10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130200" y="2941200"/>
            <a:ext cx="947880" cy="10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8900000">
            <a:off x="399600" y="3166560"/>
            <a:ext cx="758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3060000">
            <a:off x="3454920" y="3129480"/>
            <a:ext cx="647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8900000">
            <a:off x="536400" y="3324240"/>
            <a:ext cx="1244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pje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7240" y="2154240"/>
            <a:ext cx="576360" cy="792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50480 h 792000"/>
              <a:gd name="textAreaBottom" fmla="*/ 5144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12" stAng="-5400000" swAng="-5400000"/>
                <a:lnTo>
                  <a:pt x="0" y="9926"/>
                </a:lnTo>
                <a:arcTo wR="21600" hR="8212" stAng="10800000" swAng="-2824617"/>
                <a:lnTo>
                  <a:pt x="14400" y="21130"/>
                </a:lnTo>
                <a:lnTo>
                  <a:pt x="21600" y="17280"/>
                </a:lnTo>
                <a:lnTo>
                  <a:pt x="14400" y="12490"/>
                </a:lnTo>
                <a:lnTo>
                  <a:pt x="14400" y="15953"/>
                </a:lnTo>
                <a:arcTo wR="21600" hR="8212" stAng="7975383" swAng="2687545"/>
                <a:lnTo>
                  <a:pt x="118" y="9068"/>
                </a:lnTo>
                <a:arcTo wR="21600" hR="8212" stAng="-10662928" swAng="5262928"/>
                <a:close/>
              </a:path>
              <a:path fill="darkenLess" w="21600" h="21600">
                <a:moveTo>
                  <a:pt x="21600" y="0"/>
                </a:moveTo>
                <a:arcTo wR="21600" hR="8212" stAng="-5400000" swAng="-5400000"/>
                <a:lnTo>
                  <a:pt x="0" y="8212"/>
                </a:lnTo>
                <a:arcTo wR="21600" hR="8212" stAng="10800000" swAng="-137072"/>
                <a:lnTo>
                  <a:pt x="118" y="9068"/>
                </a:lnTo>
                <a:arcTo wR="21600" hR="8212" stAng="-10662928" swAng="5262928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411280" y="3157200"/>
            <a:ext cx="944640" cy="10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3000000">
            <a:off x="2531520" y="3544560"/>
            <a:ext cx="113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v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8900000">
            <a:off x="767880" y="3468240"/>
            <a:ext cx="1305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v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5960" y="5322960"/>
            <a:ext cx="142920" cy="718920"/>
          </a:xfrm>
          <a:prstGeom prst="downArrow">
            <a:avLst>
              <a:gd name="adj1" fmla="val 50000"/>
              <a:gd name="adj2" fmla="val 12575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4320" y="6186600"/>
            <a:ext cx="1081080" cy="43164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4320" y="6762600"/>
            <a:ext cx="1152360" cy="432000"/>
          </a:xfrm>
          <a:prstGeom prst="horizontalScroll">
            <a:avLst>
              <a:gd name="adj" fmla="val 125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00680" y="5249880"/>
            <a:ext cx="142560" cy="720720"/>
          </a:xfrm>
          <a:prstGeom prst="downArrow">
            <a:avLst>
              <a:gd name="adj1" fmla="val 50000"/>
              <a:gd name="adj2" fmla="val 1263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5600" y="6114960"/>
            <a:ext cx="1079640" cy="43200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5600" y="6689880"/>
            <a:ext cx="1150920" cy="431640"/>
          </a:xfrm>
          <a:prstGeom prst="horizontalScroll">
            <a:avLst>
              <a:gd name="adj" fmla="val 125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046160" y="3234960"/>
            <a:ext cx="100800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2C67-DE74-4098-905F-1FD7F77972C9}" type="slidenum">
              <a:t>8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07960" y="50796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za </a:t>
            </a: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izvršavanj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r-HR" sz="5400" spc="-1" strike="noStrike">
                <a:solidFill>
                  <a:srgbClr val="000000"/>
                </a:solidFill>
                <a:latin typeface="Arial"/>
              </a:rPr>
              <a:t>neuspje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32320" y="2225520"/>
            <a:ext cx="5472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lvl="1" marL="820800" indent="-3175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alje poruku o odustaj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3175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ništav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činke transakcije koristeći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undo log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lobađ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šte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r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3175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alje potvrdu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oditel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3175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oditel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akciju kada primi sve potvrde.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507600"/>
                <a:tab algn="l" pos="99648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47600" y="2009880"/>
            <a:ext cx="2376720" cy="936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ditel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95600" y="4314960"/>
            <a:ext cx="93672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ni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4320" y="4314960"/>
            <a:ext cx="100800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nik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82200" y="3162240"/>
            <a:ext cx="1017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76680" y="3089160"/>
            <a:ext cx="93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6880" y="4818240"/>
            <a:ext cx="720720" cy="360360"/>
          </a:xfrm>
          <a:custGeom>
            <a:avLst/>
            <a:gdLst>
              <a:gd name="textAreaLeft" fmla="*/ 126720 w 720720"/>
              <a:gd name="textAreaRight" fmla="*/ 520560 w 720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11600" y="4818240"/>
            <a:ext cx="647640" cy="360360"/>
          </a:xfrm>
          <a:custGeom>
            <a:avLst/>
            <a:gdLst>
              <a:gd name="textAreaLeft" fmla="*/ 113760 w 647640"/>
              <a:gd name="textAreaRight" fmla="*/ 468000 w 64764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3000000">
            <a:off x="2772360" y="3351960"/>
            <a:ext cx="1284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ust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99960" y="3013200"/>
            <a:ext cx="1008000" cy="10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130200" y="2941200"/>
            <a:ext cx="947880" cy="10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8900000">
            <a:off x="399600" y="3166560"/>
            <a:ext cx="758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3060000">
            <a:off x="3454920" y="3129480"/>
            <a:ext cx="6476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8900000">
            <a:off x="449280" y="3309480"/>
            <a:ext cx="1422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ust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2411280" y="3157200"/>
            <a:ext cx="944640" cy="108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3000000">
            <a:off x="2531520" y="3544560"/>
            <a:ext cx="113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v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8900000">
            <a:off x="767880" y="3468240"/>
            <a:ext cx="1305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v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5960" y="5322960"/>
            <a:ext cx="142920" cy="718920"/>
          </a:xfrm>
          <a:prstGeom prst="downArrow">
            <a:avLst>
              <a:gd name="adj1" fmla="val 50000"/>
              <a:gd name="adj2" fmla="val 12575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4320" y="6186600"/>
            <a:ext cx="1081080" cy="43164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20" y="6762600"/>
            <a:ext cx="1152360" cy="432000"/>
          </a:xfrm>
          <a:prstGeom prst="horizontalScroll">
            <a:avLst>
              <a:gd name="adj" fmla="val 125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00680" y="5249880"/>
            <a:ext cx="142560" cy="720720"/>
          </a:xfrm>
          <a:prstGeom prst="downArrow">
            <a:avLst>
              <a:gd name="adj1" fmla="val 50000"/>
              <a:gd name="adj2" fmla="val 1263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95600" y="6114960"/>
            <a:ext cx="1079640" cy="43200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5600" y="6689880"/>
            <a:ext cx="1150920" cy="431640"/>
          </a:xfrm>
          <a:prstGeom prst="horizontalScroll">
            <a:avLst>
              <a:gd name="adj" fmla="val 125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do 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0380000">
            <a:off x="331560" y="2226600"/>
            <a:ext cx="792000" cy="647640"/>
          </a:xfrm>
          <a:custGeom>
            <a:avLst/>
            <a:gdLst>
              <a:gd name="textAreaLeft" fmla="*/ 105840 w 792000"/>
              <a:gd name="textAreaRight" fmla="*/ 686160 w 792000"/>
              <a:gd name="textAreaTop" fmla="*/ 116640 h 647640"/>
              <a:gd name="textAreaBottom" fmla="*/ 46692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79" stAng="-5400000" swAng="5400000"/>
                <a:lnTo>
                  <a:pt x="21600" y="11680"/>
                </a:lnTo>
                <a:arcTo wR="21600" hR="7779" stAng="0" swAng="2860419"/>
                <a:lnTo>
                  <a:pt x="6732" y="21213"/>
                </a:lnTo>
                <a:lnTo>
                  <a:pt x="0" y="17509"/>
                </a:lnTo>
                <a:lnTo>
                  <a:pt x="6732" y="13030"/>
                </a:lnTo>
                <a:lnTo>
                  <a:pt x="6732" y="15171"/>
                </a:lnTo>
                <a:arcTo wR="21600" hR="7779" stAng="2860419" swAng="-2540668"/>
                <a:lnTo>
                  <a:pt x="20910" y="9730"/>
                </a:lnTo>
                <a:arcTo wR="21600" hR="7779" stAng="-319751" swAng="-5080249"/>
                <a:close/>
              </a:path>
              <a:path fill="darkenLess" w="21600" h="21600">
                <a:moveTo>
                  <a:pt x="0" y="0"/>
                </a:moveTo>
                <a:arcTo wR="21600" hR="7779" stAng="-5400000" swAng="5400000"/>
                <a:lnTo>
                  <a:pt x="21600" y="11680"/>
                </a:lnTo>
                <a:arcTo wR="21600" hR="7779" stAng="0" swAng="-319751"/>
                <a:lnTo>
                  <a:pt x="20910" y="9730"/>
                </a:lnTo>
                <a:arcTo wR="21600" hR="7779" stAng="-319751" swAng="-5080249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119240" y="3234960"/>
            <a:ext cx="100800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A165-F4D5-4643-888E-11C3F8B87DA7}" type="slidenum">
              <a:t>9</a:t>
            </a:fld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na_legac</cp:lastModifiedBy>
  <dcterms:modified xsi:type="dcterms:W3CDTF">2010-05-31T20:46:08Z</dcterms:modified>
  <cp:revision>10</cp:revision>
  <dc:subject/>
  <dc:title>PowerPoint Presentation</dc:title>
</cp:coreProperties>
</file>